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570C-F603-4C24-ABE4-7EF5832A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9099-8181-4F55-A112-2983DB2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3491-BDD0-47D5-9A61-D3F0EB72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C925-AF99-489A-9B71-FADE8287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98C0-023D-4324-AB23-46BC08C7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077C-A8C4-45E2-8CEB-E2EEC62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D899-F079-48A0-B2C4-1F37DF7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8431-B590-4C45-AE84-ECCC485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FBB8-2CCF-4004-BF4B-35BA8EA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5EC5-806F-468C-8C6D-A09BB42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FACF-DEAE-416C-8122-EB71D06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5481-A36B-4778-9C2F-6186D170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E23F-6D45-42C8-A661-01BA871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7498-88FD-40D9-BDF6-9EA715E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2C87-3A21-45D4-AB58-7AE1B2B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7925-5DE7-420C-A240-31EAEAC0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F557-0E19-4776-8564-A58A6EB7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5970-AC35-4A94-8369-21FBACA6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D304-37B9-4E4F-9AC8-BE82DC87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C0A6-5CD5-49F9-898E-F496C01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72CC-CA68-4F4F-8845-0E90EA33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E642-6E4F-4EDF-9E13-60848BB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8AAB-AA44-4169-B6A3-DFB7F8C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94E6-39CA-4DB5-AB51-DAEC4F4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8713-9AB8-4A5F-B5E3-0D6BFA98DE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867A-93C1-4117-928D-578D58D10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8436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Jornada sobre Actualización de Administración de Consorcios 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0 de Diciembre de 201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602136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ng. Carlos Bu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765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Para qué se debe implementar un Plan de Evacuación en Inmueb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3141720"/>
            <a:ext cx="66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experiencia indica la mejor forma de actuar ante una catástrofe es cuando las acciones se planifican de antemano y cuando las personas, que deben actuar, conocen perfectamente sus roles y los han practicado, dejando de lado toda improvis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16635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765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Qué Normativa se debe Cumplimentar sobre Planes de Evacu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276640"/>
            <a:ext cx="842472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ey de Seg. e Hig. en el Trabajo Nº 19587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Art. 9 k)</a:t>
            </a: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creto Reg. Nº 351/79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Cap. 18 Art. 187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olución de la SRT Nº 463/09 Relevamiento de  Riesgos Laborales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Puntos 32)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ey de la CABA Nº 1346/04 sobre Plan de Evacuación y Simulacro en caso de Incendio, Explosión o advertencia de Explo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creto del GACBA Nº 1082/04 de promulgación de la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765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Qué dice la Ley 1346/04 para los edificios de viviend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92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ículo 2°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Plan será de aplicació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ligato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dific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anto del ámbito público como del ámbito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v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 ofic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cuelas, hospitales y en todos aquello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dificios con atención al públ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decuándolo a las características propias del inmueble, su destino y de las personas que lo utilicen siendo de aplicació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olun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lo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dificios de vivien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62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Qué comprende el Plan de Evacu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306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lanos de Evacuación = Plan de Evac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01600">
            <a:off x="3564360" y="2997000"/>
            <a:ext cx="19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NO 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289160"/>
            <a:ext cx="86421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s un Manual donde se debe detallar toda la informaciòn del edificio referente a los recursos internos o externos con los que cuenta ante un siniestr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istema de al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istema de emergencias méd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istemas contraincen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Operatoria a seguir en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lanos de evac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pacitación realizada al personal y sus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echas de simula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Toda información que el profesional crea de impor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765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Cómo Cumplimentar la Ley 1346/0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1413000"/>
            <a:ext cx="2881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tratación de Profesional Matriculado  con Incumbe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2565360"/>
            <a:ext cx="2881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elevará las Condiciones del Edificio y Propondrá mej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789360"/>
            <a:ext cx="2881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eleccionará al personal coordinadamente con Administrador y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789360"/>
            <a:ext cx="28080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pondá los roles de participación y los capacitará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62560" y="3789360"/>
            <a:ext cx="2881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feccionará los Planos de Evac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869000"/>
            <a:ext cx="2808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Fijará las Fechas de Simulac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5661000"/>
            <a:ext cx="49676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l Profesional presentará el Plan Completo en Defensa Civil –DC- y realizará los Simulacros en las fechas establec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1511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223">
                <a:moveTo>
                  <a:pt x="11905" y="14593"/>
                </a:moveTo>
                <a:lnTo>
                  <a:pt x="11905" y="12635"/>
                </a:lnTo>
                <a:cubicBezTo>
                  <a:pt x="11905" y="11808"/>
                  <a:pt x="12236" y="11112"/>
                  <a:pt x="12837" y="11112"/>
                </a:cubicBezTo>
                <a:cubicBezTo>
                  <a:pt x="13968" y="11112"/>
                  <a:pt x="14865" y="9745"/>
                  <a:pt x="14865" y="8161"/>
                </a:cubicBezTo>
                <a:cubicBezTo>
                  <a:pt x="14865" y="5846"/>
                  <a:pt x="13011" y="4105"/>
                  <a:pt x="10800" y="4105"/>
                </a:cubicBezTo>
                <a:cubicBezTo>
                  <a:pt x="8589" y="4105"/>
                  <a:pt x="6918" y="5846"/>
                  <a:pt x="6918" y="8161"/>
                </a:cubicBezTo>
                <a:lnTo>
                  <a:pt x="8772" y="8161"/>
                </a:lnTo>
                <a:cubicBezTo>
                  <a:pt x="8772" y="7021"/>
                  <a:pt x="9695" y="6133"/>
                  <a:pt x="10800" y="6133"/>
                </a:cubicBezTo>
                <a:cubicBezTo>
                  <a:pt x="11905" y="6133"/>
                  <a:pt x="12837" y="7021"/>
                  <a:pt x="12837" y="8161"/>
                </a:cubicBezTo>
                <a:cubicBezTo>
                  <a:pt x="12837" y="8901"/>
                  <a:pt x="12367" y="9632"/>
                  <a:pt x="11905" y="9632"/>
                </a:cubicBezTo>
                <a:cubicBezTo>
                  <a:pt x="10800" y="9632"/>
                  <a:pt x="9695" y="11112"/>
                  <a:pt x="9695" y="12635"/>
                </a:cubicBezTo>
                <a:lnTo>
                  <a:pt x="9695" y="1459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765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Validez del Plan de Evacu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557360"/>
            <a:ext cx="8496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l Plan posee una validez de un año a partir de la fecha de presentación en DC, a partir de allí y antes de su vencimiento el Administrador deberá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ncomendar la tarea de renovación a un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l Profesional revisará el Plan y las condiciones edili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ará si es necesario modificar los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pacitará nuevamente al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ijará las nuevas fechas de Simula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esentará el Plan ante de 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59280" y="198900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373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uerde la contratación de personal experimentado y matriculado le brindará la seguridad y la calidad de trabajo que Ud. y sus representados necesit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765000"/>
            <a:ext cx="66974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laves de lo Vis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lano de Evacuación 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NO =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Plan de Evacu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lan de Evacu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fesional Matriculado = Encomienda Profe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esentación del Plan ante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Vigencia del Plan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urante el año se realizarán dos simulac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ntes del Vencimiento, nombramiento del Profesional y presentación de la reno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racias por su atención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arlos Buján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Ingeniero Electricista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Especialista en Seguridad e Higiene Laboral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Espacio para Pregunta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arlos Buján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Ingeniero Electricista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Especialista en Seguridad e Higiene Laboral</a:t>
            </a:r>
            <a:br>
              <a:rPr sz="28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31488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748720" y="638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Certificado de Calibración de Instrumento y encomienda Profesional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35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Program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esta a Tierra en Instalaciones      Eléctric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n de Evacuación en Inmueb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836640"/>
            <a:ext cx="734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Grupo Direc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1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rector de Evac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1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Jefe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1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Jefe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uplente del Gru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Roles en el Plan de Evacuación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3500280"/>
            <a:ext cx="734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Grupo de Emergen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1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ponsable de P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up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5157720"/>
            <a:ext cx="734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Grupo de Control de Incend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1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pons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up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uesta a Tierra en Instalacion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Eléctric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Puesta a Tierra en Instalaciones Eléctrica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692080" cy="410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765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Qué función cumple la Puesta a Tierr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1484280"/>
            <a:ext cx="540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Dado que </a:t>
            </a:r>
            <a:r>
              <a:rPr b="0" i="1" lang="es-AR" sz="2800" spc="-1" strike="noStrike" u="sng">
                <a:solidFill>
                  <a:srgbClr val="ff0000"/>
                </a:solidFill>
                <a:uFillTx/>
                <a:latin typeface="Arial"/>
              </a:rPr>
              <a:t>todos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 los elementos </a:t>
            </a:r>
            <a:r>
              <a:rPr b="0" i="1" lang="es-AR" sz="2800" spc="-1" strike="noStrike" u="sng">
                <a:solidFill>
                  <a:srgbClr val="ff0000"/>
                </a:solidFill>
                <a:uFillTx/>
                <a:latin typeface="Arial"/>
              </a:rPr>
              <a:t>metálicos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 que puedan quedar bajo tensión en un inmueble </a:t>
            </a:r>
            <a:r>
              <a:rPr b="0" i="1" lang="es-AR" sz="2800" spc="-1" strike="noStrike" u="sng">
                <a:solidFill>
                  <a:srgbClr val="ff0000"/>
                </a:solidFill>
                <a:uFillTx/>
                <a:latin typeface="Arial"/>
              </a:rPr>
              <a:t>deben ser conectados a tierra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, la Puesta a Tierra, combinada con el uso de Disyuntores Diferenciales, es la única protección efectiva que tienen las Personas, los Animales y los Bienes frente a una descarga eléctrica que se produzca en un equi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Puesta a Tierra en Instalaciones Eléctrica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9640" y="1341360"/>
            <a:ext cx="3111480" cy="5329440"/>
            <a:chOff x="539640" y="1341360"/>
            <a:chExt cx="3111480" cy="53294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39640" y="3286080"/>
              <a:ext cx="3111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9640" y="1341360"/>
              <a:ext cx="309744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Equipo sin Puesta a Tier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A.  Camino seguido por la Corriente de Descarg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B.  Alimentación Eléctr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C.  Equipo Eléctr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D.  Defecto de Aisl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08720" y="1341360"/>
            <a:ext cx="3095640" cy="5329440"/>
            <a:chOff x="5508720" y="1341360"/>
            <a:chExt cx="3095640" cy="53294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508720" y="3286080"/>
              <a:ext cx="302580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08720" y="1341360"/>
              <a:ext cx="309564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Equipo Con Puesta a Tier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A.  Camino seguido por la Corriente de Descarg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B.  Alimentación Eléctr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C.  Equipo Eléctr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D.  Defecto de Aisl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549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Cómo Funciona la Protección por Puesta a Tierr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Puesta a Tierra en Instalaciones Eléctrica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765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Qué Normativa debe Cumplimentar el Administrador respecto de las PAT´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916280"/>
            <a:ext cx="8424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ey de Seg. e Hig. en el Trabajo Nº 19587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Art. 8 b)</a:t>
            </a: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creto Reg. Nº 351/79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Cap. 14 Art. 102 y Anexo VI punto 3.3.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olución de la SRT Nº 463/09 Relevamiento de  Riesgos Laborales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Puntos 62, 63 y 153)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sposición de la DGDyPC Nº 411/11 Certificación de Edificio Seguro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Artículo 4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Guía COPIME HIST 1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glamentación para Instalaciones Eléctricas en Inmuebles versión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ódigo de Edificación de la CABA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Capitulo 8.10.1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Puesta a Tierra en Instalaciones Eléctrica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54936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¿Cómo saber si la PAT cumple con la Normativ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1268280"/>
            <a:ext cx="2881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fesional Matriculado en Consejo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349360"/>
            <a:ext cx="2881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ide el Valor de Resistencia de PAT en la/s Jabalinas con Telurí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2492280"/>
            <a:ext cx="2881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erifica la Continuidad de las Masas entre Equipo y Jabal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3789360"/>
            <a:ext cx="5256360" cy="27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mite Certificado de Medición de acuerdo a Protocolo Guía COPIME HIST 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mpuesto p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ertificado de Med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ertificado de Calibración del Telurí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ncomienda Profes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lano de Ubicación de la Jab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264720" y="1593000"/>
            <a:ext cx="863640" cy="360360"/>
          </a:xfrm>
          <a:custGeom>
            <a:avLst/>
            <a:gdLst>
              <a:gd name="textAreaLeft" fmla="*/ 0 w 863640"/>
              <a:gd name="textAreaRight" fmla="*/ 864000 w 863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rot="16200000">
            <a:off x="2411280" y="1557000"/>
            <a:ext cx="863640" cy="4320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871400">
            <a:off x="821880" y="3824280"/>
            <a:ext cx="935280" cy="2016000"/>
          </a:xfrm>
          <a:custGeom>
            <a:avLst/>
            <a:gdLst>
              <a:gd name="textAreaLeft" fmla="*/ 125280 w 935280"/>
              <a:gd name="textAreaRight" fmla="*/ 810000 w 93528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rot="1243800">
            <a:off x="8026920" y="3645000"/>
            <a:ext cx="828720" cy="2016000"/>
          </a:xfrm>
          <a:custGeom>
            <a:avLst/>
            <a:gdLst>
              <a:gd name="textAreaLeft" fmla="*/ 110880 w 828720"/>
              <a:gd name="textAreaRight" fmla="*/ 717840 w 82872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67564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0800" y="1487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35">
                <a:moveTo>
                  <a:pt x="11905" y="14349"/>
                </a:moveTo>
                <a:lnTo>
                  <a:pt x="11905" y="12391"/>
                </a:lnTo>
                <a:cubicBezTo>
                  <a:pt x="11905" y="11564"/>
                  <a:pt x="12236" y="10868"/>
                  <a:pt x="12837" y="10868"/>
                </a:cubicBezTo>
                <a:cubicBezTo>
                  <a:pt x="13968" y="10868"/>
                  <a:pt x="14865" y="9501"/>
                  <a:pt x="14865" y="7917"/>
                </a:cubicBezTo>
                <a:cubicBezTo>
                  <a:pt x="14865" y="5602"/>
                  <a:pt x="13011" y="3861"/>
                  <a:pt x="10800" y="3861"/>
                </a:cubicBezTo>
                <a:cubicBezTo>
                  <a:pt x="8589" y="3861"/>
                  <a:pt x="6918" y="5602"/>
                  <a:pt x="6918" y="7917"/>
                </a:cubicBezTo>
                <a:lnTo>
                  <a:pt x="8772" y="7917"/>
                </a:lnTo>
                <a:cubicBezTo>
                  <a:pt x="8772" y="6777"/>
                  <a:pt x="9695" y="5889"/>
                  <a:pt x="10800" y="5889"/>
                </a:cubicBezTo>
                <a:cubicBezTo>
                  <a:pt x="11905" y="5889"/>
                  <a:pt x="12837" y="6777"/>
                  <a:pt x="12837" y="7917"/>
                </a:cubicBezTo>
                <a:cubicBezTo>
                  <a:pt x="12837" y="8657"/>
                  <a:pt x="12367" y="9388"/>
                  <a:pt x="11905" y="9388"/>
                </a:cubicBezTo>
                <a:cubicBezTo>
                  <a:pt x="10800" y="9388"/>
                  <a:pt x="9695" y="10868"/>
                  <a:pt x="9695" y="12391"/>
                </a:cubicBezTo>
                <a:lnTo>
                  <a:pt x="9695" y="1434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Puesta a Tierra en Instalaciones Eléctrica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59280" y="198900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22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uerde la contratación de personal experimentado y matriculado le brindará la seguridad y la calidad de trabajo que Ud. y sus representados necesit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765000"/>
            <a:ext cx="669744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laves de lo Vis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uesta a Tierra + Disyuntores = Seguridad para las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ertificación de Puesta a Tier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fesional Matriculado = Encomienda Profe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Ubicación de Jabalina = Plano de Ub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edición de PAT = Certificado de Calibración del Instru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ertificado de Medición de la P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lan de Evacuación en Inmueb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20:43:54Z</dcterms:created>
  <dc:creator>usuario</dc:creator>
  <dc:description/>
  <dc:language>en-US</dc:language>
  <cp:lastModifiedBy>User</cp:lastModifiedBy>
  <dcterms:modified xsi:type="dcterms:W3CDTF">2012-12-10T00:26:56Z</dcterms:modified>
  <cp:revision>13</cp:revision>
  <dc:subject/>
  <dc:title>Programa</dc:title>
</cp:coreProperties>
</file>